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242-38B8-4F8A-A794-3C69752F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4FD-E2F2-46EB-8B69-EB08EADC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7DA-FEAE-486A-913B-5BBCBA7E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9DB-E442-42B4-9E3E-44D8713B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8DD5-2235-4315-A560-FC0F7BB2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92D9-CA7F-4CC2-B34D-44EF3654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5505-964B-4AC9-8196-44813426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3273-6BA2-40FD-BA65-0E205462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7784-3AA4-4E4F-A833-06E26370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688F-ADFF-4D77-9842-F750A521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490C-93ED-4BD7-B0BD-338EBCEA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529-AD71-4DF7-BE14-11C726E0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D5CF-1ED0-4E10-8466-3604011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2CF1-EA87-4C81-9718-BC0DBABD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2B88-612F-4187-A119-8B57C9E5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BC64-4E8B-4F6A-BAE4-E9A3B4E3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CE8B-FDE4-4319-B0F0-64DEE6A6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70478-7F71-4DB6-9E8A-C75C9F7A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AFB90-A3DE-41F2-9E36-C4F577F0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44E80-48F3-4F29-B9C5-A4555142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1D6BB-BD5F-4294-B5E2-61203D3A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4723F-B892-4111-804C-101E542F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C8A-334F-4576-B2A2-69DA476C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BF852-0F86-4DF0-B782-E3A90927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199C7-7FA0-487A-8B4A-D5DF70AD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17E4B-9242-48FB-921F-FD7EE964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CD186-675B-45F0-AB0F-F180AB60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0CAAF-907E-49BA-9E61-82BFB12D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0A3B7-DA75-40D1-900B-083E7099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9A732-374B-43E7-B1DF-B8A75487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18B7-73E8-4185-A1F9-2DFA045E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9254-3A4D-4BD3-A288-84BC330B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E4516-C972-4F9C-8DD7-B2253CBE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DAC-16F8-4FC4-9F97-41021EC9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5CCA-BF3C-4D1F-B01B-5781C498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481E3-4001-4164-B1FA-78FD27B8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B90B6-F350-4577-9009-C0D280FD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D315-A65B-4F1A-A1B9-A31A773D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4678-692B-4736-AC91-F47CD4CC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E3D62-5313-49F0-9DFF-283AE4C1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70B5-CC5A-452C-90CA-D33546A4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76FF-0FC2-4011-B3FD-10F050D2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1317F-1DAF-44CB-82AD-D98C3475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40A80-DB44-42A5-ACFF-DC420EA3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ED9-E6F5-4393-9A3B-5CDBE322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34074-084A-40A2-B946-57EF7C53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93B61-B5B4-4622-A2C8-461A441D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E24BA-E3B4-4004-BABD-04A05631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8D65B-BF36-4996-B2A6-CBFB7BB8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51B37D-B25B-4974-B2CF-D74FAF22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D3AD3A-D25E-4F01-BDC9-08CB260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6F02B-CE37-4F6F-99C1-B6DE99EF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CF86E-EDF4-499C-A7CA-00514FFB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8B3EA-0F33-4479-8755-1866EACE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4F800-5978-4D8A-BDC9-6840368F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E7C-73A3-4CBB-BB4B-F1A56DA6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17B4F-7FC8-4E63-B8EC-1F06B78B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29690-5724-41BA-AF9C-AC6B9295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0C1A6-67A1-4D8A-90C7-B916F40E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6BC4E-2EFC-4C04-B661-6E8CCE0E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4B338-DFB2-4620-ABD5-6AC46FF6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0BD76-ECA2-4822-9D80-044ECC13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CE9B84-01B1-4660-B143-BF1C2C6C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F3A3C-67ED-43FD-8CC1-73208E3B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94719-181F-40C3-9B6C-02906FC1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8D373-C841-4006-8B6B-1ADBC298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C16-5BF0-466C-AD7C-BDBF2236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35E4C-AC34-435C-B99C-B0321DC6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2ED37-5511-4AD6-AA2F-5C627F7B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C0C98-1CB2-4127-987E-FDFD3035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8BB8B-3105-4403-A191-34358494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5C540-F4E2-4F13-8369-BE019A24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B67F4-5B4B-4347-936D-9431648A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44106-17AB-48CD-B4B8-BC63D8BA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B2D1F-E92D-4DAC-B676-48D7F8C8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CA3A2-48AD-4A4A-B4B0-57B8B6D3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E0EAE-C26D-4FE3-806E-9812C6F8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EB8-B904-4204-9ACC-7141133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24111-F68B-4DCC-AEBB-0B4FCD06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F1D41-640B-4970-9148-E0A768B1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2399C-7204-4DAC-B3EF-BE815D53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F34F1-E9E7-4FB9-9691-1488CB15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C96F6-E831-4010-88FA-75996AAD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55C-2F62-42FE-9F00-88BE564D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57C7-9758-4B1D-8282-ACF9D493280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4324-30A6-4D77-94EA-7ACC2E7094A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DF77-B34E-46BF-BFBA-CEE51204F33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0659-65C8-41EE-982C-39D40697522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8B63-41D3-414A-9CCD-841337A9725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FA1C-F90D-4528-B1D6-7E4CEEEF9C8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1968-20AE-4153-93DD-273BA613D43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75f6d"/>
                </a:solidFill>
                <a:latin typeface="Book Antiqua"/>
              </a:rPr>
              <a:t>PIRAMIDA PATRULATER</a:t>
            </a:r>
            <a:r>
              <a:rPr b="1" lang="ro-RO" sz="6600" spc="-1" strike="noStrike">
                <a:solidFill>
                  <a:srgbClr val="575f6d"/>
                </a:solidFill>
                <a:latin typeface="Book Antiqua"/>
              </a:rPr>
              <a:t>Ă</a:t>
            </a:r>
            <a:r>
              <a:rPr b="1" lang="en-US" sz="6600" spc="-1" strike="noStrike">
                <a:solidFill>
                  <a:srgbClr val="575f6d"/>
                </a:solidFill>
                <a:latin typeface="Book Antiqua"/>
              </a:rPr>
              <a:t> REGULAT</a:t>
            </a:r>
            <a:r>
              <a:rPr b="1" lang="ro-RO" sz="6600" spc="-1" strike="noStrike">
                <a:solidFill>
                  <a:srgbClr val="575f6d"/>
                </a:solidFill>
                <a:latin typeface="Book Antiqua"/>
              </a:rPr>
              <a:t>Ă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43200" y="4571640"/>
            <a:ext cx="640080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Grupa 8:     </a:t>
            </a:r>
            <a:r>
              <a:rPr b="1" lang="ro-RO" sz="2400" spc="-1" strike="noStrike">
                <a:solidFill>
                  <a:srgbClr val="575f6d"/>
                </a:solidFill>
                <a:latin typeface="Century Schoolbook"/>
              </a:rPr>
              <a:t>Popovici Casand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                   </a:t>
            </a:r>
            <a:r>
              <a:rPr b="1" lang="ro-RO" sz="24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r>
              <a:rPr b="1" lang="ro-RO" sz="2400" spc="-1" strike="noStrike">
                <a:solidFill>
                  <a:srgbClr val="575f6d"/>
                </a:solidFill>
                <a:latin typeface="Century Schoolbook"/>
              </a:rPr>
              <a:t>Puşcaş Rau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                 </a:t>
            </a:r>
            <a:r>
              <a:rPr b="1" lang="ro-RO" sz="24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o-RO" sz="2400" spc="-1" strike="noStrike">
                <a:solidFill>
                  <a:srgbClr val="575f6d"/>
                </a:solidFill>
                <a:latin typeface="Century Schoolbook"/>
              </a:rPr>
              <a:t>Raţ Bian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900" spc="-1" strike="noStrike">
                <a:solidFill>
                  <a:srgbClr val="575f6d"/>
                </a:solidFill>
                <a:latin typeface="Century Schoolbook"/>
              </a:rPr>
              <a:t>PIRAMIDA PATRULATERĂ REGULATĂ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DEF</a:t>
            </a:r>
            <a:r>
              <a:rPr b="1" lang="ro-RO" sz="36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ro-RO" sz="2400" spc="-1" strike="noStrike">
                <a:solidFill>
                  <a:srgbClr val="000000"/>
                </a:solidFill>
                <a:latin typeface="Arial Black"/>
              </a:rPr>
              <a:t>Piramida patrulateră regulată este piramida cu baza pătrat şi înălţimea în centrul baze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-500040" y="2643120"/>
            <a:ext cx="12890520" cy="5214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428616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214960" y="428760"/>
            <a:ext cx="3929040" cy="66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Element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o bază, pătr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4 feţe laterale, triunghiuri isosce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4 muchii ale bazei (L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4 muchii laterale (m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o înălţime (H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4 apoteme ale piramidei (a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4 apoteme ale bazei (ab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1" descr=""/>
          <p:cNvPicPr/>
          <p:nvPr/>
        </p:nvPicPr>
        <p:blipFill>
          <a:blip r:embed="rId1"/>
          <a:stretch/>
        </p:blipFill>
        <p:spPr>
          <a:xfrm>
            <a:off x="-2214720" y="857160"/>
            <a:ext cx="7715520" cy="556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68596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43400" y="500040"/>
            <a:ext cx="3757320" cy="678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ormul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 </a:t>
            </a:r>
            <a:r>
              <a:rPr b="0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b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 </a:t>
            </a:r>
            <a:r>
              <a:rPr b="0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b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  =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+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L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=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 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T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L + A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= 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x Ab x 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7429680" y="928800"/>
            <a:ext cx="285480" cy="5364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7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"/>
          <p:cNvPicPr/>
          <p:nvPr/>
        </p:nvPicPr>
        <p:blipFill>
          <a:blip r:embed="rId2"/>
          <a:stretch/>
        </p:blipFill>
        <p:spPr>
          <a:xfrm>
            <a:off x="-2428920" y="1071720"/>
            <a:ext cx="8858160" cy="55623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"/>
          <p:cNvPicPr/>
          <p:nvPr/>
        </p:nvPicPr>
        <p:blipFill>
          <a:blip r:embed="rId3"/>
          <a:stretch/>
        </p:blipFill>
        <p:spPr>
          <a:xfrm>
            <a:off x="7286760" y="1285920"/>
            <a:ext cx="180720" cy="7999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12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3" descr=""/>
          <p:cNvPicPr/>
          <p:nvPr/>
        </p:nvPicPr>
        <p:blipFill>
          <a:blip r:embed="rId4"/>
          <a:stretch/>
        </p:blipFill>
        <p:spPr>
          <a:xfrm>
            <a:off x="6500880" y="2214720"/>
            <a:ext cx="511200" cy="5619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5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8" descr=""/>
          <p:cNvPicPr/>
          <p:nvPr/>
        </p:nvPicPr>
        <p:blipFill>
          <a:blip r:embed="rId5"/>
          <a:stretch/>
        </p:blipFill>
        <p:spPr>
          <a:xfrm>
            <a:off x="7358040" y="2286000"/>
            <a:ext cx="428760" cy="4968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0" descr=""/>
          <p:cNvPicPr/>
          <p:nvPr/>
        </p:nvPicPr>
        <p:blipFill>
          <a:blip r:embed="rId6"/>
          <a:stretch/>
        </p:blipFill>
        <p:spPr>
          <a:xfrm>
            <a:off x="8143920" y="2214720"/>
            <a:ext cx="511200" cy="5619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2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5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8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9" descr=""/>
          <p:cNvPicPr/>
          <p:nvPr/>
        </p:nvPicPr>
        <p:blipFill>
          <a:blip r:embed="rId7"/>
          <a:stretch/>
        </p:blipFill>
        <p:spPr>
          <a:xfrm>
            <a:off x="7072200" y="4714920"/>
            <a:ext cx="276480" cy="86688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31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4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7" descr=""/>
          <p:cNvPicPr/>
          <p:nvPr/>
        </p:nvPicPr>
        <p:blipFill>
          <a:blip r:embed="rId8"/>
          <a:stretch/>
        </p:blipFill>
        <p:spPr>
          <a:xfrm>
            <a:off x="7286760" y="3143160"/>
            <a:ext cx="857160" cy="94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PROBLEM</a:t>
            </a:r>
            <a:r>
              <a:rPr b="0" lang="ro-RO" sz="4000" spc="-1" strike="noStrike">
                <a:solidFill>
                  <a:srgbClr val="575f6d"/>
                </a:solidFill>
                <a:latin typeface="Century Schoolbook"/>
              </a:rPr>
              <a:t>Ă :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13840" y="1213920"/>
            <a:ext cx="8929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Piramida patrulateră regulată VABCD are înălţimea VO=        cm, iar muchia laterală formează cu planul bazei un unghi cu măsura d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. Să se calculeze volumul piramidei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. Să se calculeze aria laterală a piramidei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. Fie 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AD) astfel încât AM = AO ş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{N} = M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ro-RO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BC. Să se calculeze:  1) aria triunghilui VM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) distan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ţa de la A la dreapta M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legere ,,Matematic</a:t>
            </a: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ă pentru evaluarea naţională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”, pag. 132 V8, SIII, P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2" descr=""/>
          <p:cNvPicPr/>
          <p:nvPr/>
        </p:nvPicPr>
        <p:blipFill>
          <a:blip r:embed="rId1"/>
          <a:stretch/>
        </p:blipFill>
        <p:spPr>
          <a:xfrm>
            <a:off x="3071880" y="1643040"/>
            <a:ext cx="657000" cy="5428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8:39:16Z</dcterms:created>
  <dc:creator>Clementine</dc:creator>
  <dc:description/>
  <dc:language>en-US</dc:language>
  <cp:lastModifiedBy>Clementine</cp:lastModifiedBy>
  <dcterms:modified xsi:type="dcterms:W3CDTF">2011-02-12T18:17:38Z</dcterms:modified>
  <cp:revision>19</cp:revision>
  <dc:subject/>
  <dc:title>Piramida patrulateră regulată</dc:title>
</cp:coreProperties>
</file>